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wmf" ContentType="image/x-wmf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move the slide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8796-22CD-44D5-9751-442D26D30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5F17-C81D-41D8-95B7-1F43035640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5B85-7186-4F38-8087-CD36C707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0BE3-796E-49C3-A4D9-8293714D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75D5-F985-4033-A30B-14D5E630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C013-675D-424D-A1CC-1AD7CAEB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C87C-2EAC-4AF0-B9E2-B897BD91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A7CC-91F8-4604-AF24-D0A125E4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F040-5E6C-451A-B23D-3E3B0C21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454D-F029-4B99-B633-D9E60587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4184-7B09-440C-BAF4-A44F8862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EDFE-B175-400D-8B76-3C04C743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2D30-E8DE-46BA-A45A-D776399D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F3E3-CD97-4157-BE29-A96EC760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5730-7624-48A7-A676-74930C15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93D2-7082-4C8F-83A3-B23623D3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9C9A-944A-42AE-9DF6-96BA051A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914E-E1E3-4AD3-A909-66D4A348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DF4E-E50F-4715-A616-00E0ED0D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00B2C-DB27-4175-B3EA-951C5F16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27497-6B15-4F50-BAE3-C43B8370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CCC34-F3A3-4E9E-A2C3-A1450DED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F054C-A814-449E-AD32-CFC7CA7C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C05AC-C501-4A1B-8ED4-5891DB93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ADD-B8DE-4BC3-82A4-A3CB7A13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F6AE5-0EE5-489A-8D72-97C9769E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20026-74D8-4A60-B363-5E368A29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40A06-2102-425D-B0C1-72B4B6BE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B123F-A7B0-4195-A123-08130320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BE1C3-8157-47AD-81C7-B93D7E99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DCBBA-EAF5-4CF7-873D-DA3E0C98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7444F-F3C2-47A6-ABCA-21F0B64A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19B97-DEF8-4B72-B274-D72A2E37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EC6FE-7D70-402A-91D5-D74F2766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77B0D-3447-4EFC-9901-F89F3973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C03-3D84-4B6C-8C68-5177D846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9DE35-B4A0-45DE-82A3-AC9EB574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4C102-5EBC-4D46-9798-73101ADF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4C69E-5AE6-49B4-ABCA-3490D6F7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5E8EB-4654-47BA-A265-AD38CBEB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57ED7-2AE1-4264-B6F9-90BF0024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27841-3205-454F-9231-165676C9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28123-D7AC-4D1F-B85C-E1446D23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FAFD6-746C-45F0-BD46-FF1394D8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92776-444C-44BE-9B85-C22A401F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072FA-7003-468B-9447-6EA447A7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2BFB-10FA-44D6-9357-9381053F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4C343-915B-48DF-B3A3-DD4AC07D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C6F4C-B39F-4F52-89C9-A5E45DC4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C5CC1-49F3-4819-BD32-4266543F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7414E-7E5C-4EEB-A4EA-023A5646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AADBC-9925-443C-8D84-807CB478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3A354-7E1F-4788-A5B7-0316BA05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96797-417D-427C-A0EC-4CC7B714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2E9A8-80BD-4044-BAA9-A28CEF5C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40C89-5F25-41E3-AC23-378AA157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EFEEE-131E-4798-A657-057311D6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D70B-5CA2-4E0A-A57D-8F1812F7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8AEB1-27CF-4347-8621-B2B1DE14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C45C-FF7F-4567-A6C0-D6873412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9599-44AA-400D-909E-499FC662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E62-86C4-4B1E-B09F-6A39D681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D8FC-5127-4397-83C3-F80E0B883497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7DFD-2EC5-4DD0-AC5F-82DC6F241EDB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3B3E-8C5F-4E61-A90A-8803889EB5F0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3B78-63D9-4C20-968C-5C0E8D536D90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8371-D834-49C7-8E2E-6CD4E56CFF9E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ofhs.ltkalmar.se/" TargetMode="External"/><Relationship Id="rId3" Type="http://schemas.openxmlformats.org/officeDocument/2006/relationships/hyperlink" Target="http://www.ofhs.ltkalmar.se/" TargetMode="External"/><Relationship Id="rId4" Type="http://schemas.openxmlformats.org/officeDocument/2006/relationships/hyperlink" Target="http://www.gotland.fhsk.se/" TargetMode="External"/><Relationship Id="rId5" Type="http://schemas.openxmlformats.org/officeDocument/2006/relationships/hyperlink" Target="http://www.fhsk.skurup.se/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50560" y="476280"/>
            <a:ext cx="84358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e6d0"/>
                </a:solidFill>
                <a:latin typeface="Tw Cen MT"/>
              </a:rPr>
              <a:t>   </a:t>
            </a:r>
            <a:r>
              <a:rPr b="0" lang="en-US" sz="3200" spc="-1" strike="noStrike">
                <a:solidFill>
                  <a:srgbClr val="dfe6d0"/>
                </a:solidFill>
                <a:latin typeface="Tw Cen MT"/>
              </a:rPr>
              <a:t>Vill du bli författare?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8" name="Rubrik 1" descr=""/>
          <p:cNvPicPr/>
          <p:nvPr/>
        </p:nvPicPr>
        <p:blipFill>
          <a:blip r:embed="rId1"/>
          <a:stretch/>
        </p:blipFill>
        <p:spPr>
          <a:xfrm>
            <a:off x="5546880" y="4121280"/>
            <a:ext cx="2506680" cy="19317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2881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krivande och läsande hör ihop. Om du vill bli en bra författare är det bra att läsa många böcker och många olika författar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Man kan få goda idéer om hur man lägger upp intriger eller hur man t.ex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gör en ramberättels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0" name="Bildobjekt 3" descr=""/>
          <p:cNvPicPr/>
          <p:nvPr/>
        </p:nvPicPr>
        <p:blipFill>
          <a:blip r:embed="rId2"/>
          <a:stretch/>
        </p:blipFill>
        <p:spPr>
          <a:xfrm>
            <a:off x="3924360" y="1484280"/>
            <a:ext cx="403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ubrik 1" descr=""/>
          <p:cNvPicPr/>
          <p:nvPr/>
        </p:nvPicPr>
        <p:blipFill>
          <a:blip r:embed="rId1"/>
          <a:stretch/>
        </p:blipFill>
        <p:spPr>
          <a:xfrm>
            <a:off x="390600" y="743040"/>
            <a:ext cx="5645160" cy="60055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C:\Users\ingeli.kroon\AppData\Local\Microsoft\Windows\Temporary Internet Files\Content.IE5\51IOV3H9\MC900251102[1].wmf"/>
          <p:cNvPicPr/>
          <p:nvPr/>
        </p:nvPicPr>
        <p:blipFill>
          <a:blip r:embed="rId2"/>
          <a:stretch/>
        </p:blipFill>
        <p:spPr>
          <a:xfrm>
            <a:off x="6012000" y="2421000"/>
            <a:ext cx="24462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ubrik 1" descr=""/>
          <p:cNvPicPr/>
          <p:nvPr/>
        </p:nvPicPr>
        <p:blipFill>
          <a:blip r:embed="rId1"/>
          <a:stretch/>
        </p:blipFill>
        <p:spPr>
          <a:xfrm>
            <a:off x="249120" y="341280"/>
            <a:ext cx="8456760" cy="1427040"/>
          </a:xfrm>
          <a:prstGeom prst="rect">
            <a:avLst/>
          </a:prstGeom>
          <a:ln w="0">
            <a:noFill/>
          </a:ln>
        </p:spPr>
      </p:pic>
      <p:pic>
        <p:nvPicPr>
          <p:cNvPr id="404" name="Platshållare för innehåll 4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716000" y="1916280"/>
            <a:ext cx="3970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e6d0"/>
                </a:solidFill>
                <a:latin typeface="Aharoni"/>
                <a:ea typeface="Aharoni"/>
              </a:rPr>
              <a:t>dikt</a:t>
            </a:r>
            <a:r>
              <a:rPr b="0" lang="en-US" sz="2600" spc="-1" strike="noStrike">
                <a:solidFill>
                  <a:srgbClr val="dfe6d0"/>
                </a:solidFill>
                <a:latin typeface="Tw Cen MT"/>
              </a:rPr>
              <a:t> roman </a:t>
            </a:r>
            <a:r>
              <a:rPr b="0" lang="en-US" sz="2600" spc="-1" strike="noStrike">
                <a:solidFill>
                  <a:srgbClr val="dfe6d0"/>
                </a:solidFill>
                <a:latin typeface="Broadway"/>
                <a:ea typeface="Aparajita"/>
              </a:rPr>
              <a:t>låttext </a:t>
            </a:r>
            <a:r>
              <a:rPr b="0" lang="en-US" sz="2600" spc="-1" strike="noStrike">
                <a:solidFill>
                  <a:srgbClr val="dfe6d0"/>
                </a:solidFill>
                <a:latin typeface="Copperplate Gothic Bold"/>
              </a:rPr>
              <a:t>pjäs</a:t>
            </a:r>
            <a:r>
              <a:rPr b="0" lang="en-US" sz="26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0" lang="en-US" sz="4400" spc="-1" strike="noStrike">
                <a:solidFill>
                  <a:srgbClr val="dfe6d0"/>
                </a:solidFill>
                <a:latin typeface="Blackadder ITC"/>
              </a:rPr>
              <a:t>saga</a:t>
            </a:r>
            <a:r>
              <a:rPr b="0" lang="en-US" sz="26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1" lang="en-US" sz="2600" spc="-1" strike="noStrike">
                <a:solidFill>
                  <a:srgbClr val="dfe6d0"/>
                </a:solidFill>
                <a:latin typeface="Bradley Hand ITC"/>
              </a:rPr>
              <a:t>poesi  </a:t>
            </a:r>
            <a:r>
              <a:rPr b="0" lang="en-US" sz="4300" spc="-1" strike="noStrike">
                <a:solidFill>
                  <a:srgbClr val="dfe6d0"/>
                </a:solidFill>
                <a:latin typeface="Chiller"/>
              </a:rPr>
              <a:t>fantasy</a:t>
            </a:r>
            <a:r>
              <a:rPr b="0" lang="en-US" sz="26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dfe6d0"/>
                </a:solidFill>
                <a:latin typeface="Baskerville Old Face"/>
              </a:rPr>
              <a:t>tecknad</a:t>
            </a:r>
            <a:r>
              <a:rPr b="0" lang="en-US" sz="32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dfe6d0"/>
                </a:solidFill>
                <a:latin typeface="Baskerville Old Face"/>
              </a:rPr>
              <a:t>serie</a:t>
            </a:r>
            <a:r>
              <a:rPr b="0" lang="en-US" sz="3200" spc="-1" strike="noStrike">
                <a:solidFill>
                  <a:srgbClr val="dfe6d0"/>
                </a:solidFill>
                <a:latin typeface="Tw Cen MT"/>
              </a:rPr>
              <a:t>  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e6d0"/>
                </a:solidFill>
                <a:latin typeface="Aharoni"/>
                <a:ea typeface="Aharoni"/>
              </a:rPr>
              <a:t>kortroman</a:t>
            </a:r>
            <a:r>
              <a:rPr b="0" lang="en-US" sz="26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dfe6d0"/>
                </a:solidFill>
                <a:latin typeface="comic"/>
              </a:rPr>
              <a:t>filmmanus 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e6d0"/>
                </a:solidFill>
                <a:latin typeface="Broadway"/>
              </a:rPr>
              <a:t>berättelse</a:t>
            </a:r>
            <a:r>
              <a:rPr b="0" lang="en-US" sz="2600" spc="-1" strike="noStrike">
                <a:solidFill>
                  <a:srgbClr val="dfe6d0"/>
                </a:solidFill>
                <a:latin typeface="Tw Cen MT"/>
              </a:rPr>
              <a:t> 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e6d0"/>
                </a:solidFill>
                <a:latin typeface="Bodoni MT Black"/>
              </a:rPr>
              <a:t> </a:t>
            </a:r>
            <a:r>
              <a:rPr b="0" lang="en-US" sz="2600" spc="-1" strike="noStrike">
                <a:solidFill>
                  <a:srgbClr val="dfe6d0"/>
                </a:solidFill>
                <a:latin typeface="Bodoni MT Black"/>
              </a:rPr>
              <a:t>deckare </a:t>
            </a:r>
            <a:r>
              <a:rPr b="0" lang="en-US" sz="2600" spc="-1" strike="noStrike">
                <a:solidFill>
                  <a:srgbClr val="dfe6d0"/>
                </a:solidFill>
                <a:latin typeface="comic"/>
                <a:ea typeface="Arabic Typesetting"/>
              </a:rPr>
              <a:t>novel</a:t>
            </a:r>
            <a:r>
              <a:rPr b="0" lang="en-US" sz="2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l 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e6d0"/>
                </a:solidFill>
                <a:latin typeface="Bernard MT Condensed"/>
              </a:rPr>
              <a:t>grafisk </a:t>
            </a:r>
            <a:r>
              <a:rPr b="0" lang="en-US" sz="2600" spc="-1" strike="noStrike">
                <a:solidFill>
                  <a:srgbClr val="dfe6d0"/>
                </a:solidFill>
                <a:latin typeface="Bernard MT Condensed"/>
                <a:ea typeface="Aharoni"/>
              </a:rPr>
              <a:t>roman 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e6d0"/>
                </a:solidFill>
                <a:latin typeface="Aharoni"/>
                <a:ea typeface="Aharoni"/>
              </a:rPr>
              <a:t>Kanske något annat?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ubrik 1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51724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94920" y="1628640"/>
            <a:ext cx="38847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Använd din fantasi och uttryck något du vill berätta!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Formen för ditt berättande väljer du själv!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För att komma igång kan du läsa någon av ungdomsböckerna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ur listan med boktips.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Eller läs och låt dej inspireras   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av de tips som finns i de före-  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slagna fackböckerna.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Om du vill fortsätta ditt 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skrivande åk gärna på ett 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skrivarläger i sommar!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8" name="Platshållare för innehåll 4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384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ubrik 1" descr=""/>
          <p:cNvPicPr/>
          <p:nvPr/>
        </p:nvPicPr>
        <p:blipFill>
          <a:blip r:embed="rId1"/>
          <a:stretch/>
        </p:blipFill>
        <p:spPr>
          <a:xfrm>
            <a:off x="237960" y="268200"/>
            <a:ext cx="8455320" cy="11588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2400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letcher, R Den unge författarens verktyg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George, E Skriv på!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Härle, H Skriv och skriv vidar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Karlsson, Y Skriv om och om ige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Küchen, M Att skriva börjar här version 2.0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Nasiell, A Börja skriva!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ubrik 1" descr=""/>
          <p:cNvPicPr/>
          <p:nvPr/>
        </p:nvPicPr>
        <p:blipFill>
          <a:blip r:embed="rId1"/>
          <a:stretch/>
        </p:blipFill>
        <p:spPr>
          <a:xfrm>
            <a:off x="324000" y="328680"/>
            <a:ext cx="8307360" cy="11523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-3568680" y="1422360"/>
            <a:ext cx="409896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23640" y="1557360"/>
            <a:ext cx="4173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fe6d0"/>
                </a:solidFill>
                <a:latin typeface="Tw Cen MT"/>
              </a:rPr>
              <a:t>Ungdomsböcker om eget skrivande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Stefan Casta * Näktergalens sång</a:t>
            </a: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	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Inger Edelfeldt * Hemligt ansikte</a:t>
            </a: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	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Bo R. Holmberg * Hon heter Beatrice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Cannie Möller * M som i Mara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Mikael Niemi * Skjut apelsinen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Per Nilsson * Absolut Per Nilsson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Swedenmark * Mellan två världar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6aacd"/>
                </a:solidFill>
                <a:uFillTx/>
                <a:latin typeface="Tw Cen MT"/>
                <a:hlinkClick r:id="rId2"/>
              </a:rPr>
              <a:t>http</a:t>
            </a:r>
            <a:r>
              <a:rPr b="0" lang="en-US" sz="1300" spc="-1" strike="noStrike" u="sng">
                <a:solidFill>
                  <a:srgbClr val="66aacd"/>
                </a:solidFill>
                <a:uFillTx/>
                <a:latin typeface="Tw Cen MT"/>
                <a:hlinkClick r:id="rId3"/>
              </a:rPr>
              <a:t>://www.ofhs.ltkalmar.se</a:t>
            </a: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6aacd"/>
                </a:solidFill>
                <a:uFillTx/>
                <a:latin typeface="Tw Cen MT"/>
                <a:hlinkClick r:id="rId4"/>
              </a:rPr>
              <a:t>www.gotland.fhsk.se</a:t>
            </a: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6aacd"/>
                </a:solidFill>
                <a:uFillTx/>
                <a:latin typeface="Tw Cen MT"/>
                <a:hlinkClick r:id="rId5"/>
              </a:rPr>
              <a:t>www.fhsk.skurup.se</a:t>
            </a: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fe6d0"/>
                </a:solidFill>
                <a:latin typeface="Tw Cen MT"/>
              </a:rPr>
              <a:t>      </a:t>
            </a:r>
            <a:r>
              <a:rPr b="0" lang="en-US" sz="1300" spc="-1" strike="noStrike">
                <a:solidFill>
                  <a:srgbClr val="dfe6d0"/>
                </a:solidFill>
                <a:latin typeface="Tw Cen MT"/>
              </a:rPr>
              <a:t>Citat ur: Världens bästa citat om böcker</a:t>
            </a: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fe6d0"/>
                </a:solidFill>
                <a:latin typeface="Tw Cen MT"/>
              </a:rPr>
              <a:t> </a:t>
            </a: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5" name="Platshållare för innehåll 6" descr=""/>
          <p:cNvPicPr/>
          <p:nvPr/>
        </p:nvPicPr>
        <p:blipFill>
          <a:blip r:embed="rId6"/>
          <a:stretch/>
        </p:blipFill>
        <p:spPr>
          <a:xfrm>
            <a:off x="4067280" y="1506600"/>
            <a:ext cx="4041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6:38:08Z</dcterms:created>
  <dc:creator>Kroon Ingeli</dc:creator>
  <dc:description/>
  <dc:language>en-US</dc:language>
  <cp:lastModifiedBy>Kroon Ingeli</cp:lastModifiedBy>
  <dcterms:modified xsi:type="dcterms:W3CDTF">2011-02-11T13:46:37Z</dcterms:modified>
  <cp:revision>34</cp:revision>
  <dc:subject/>
  <dc:title>Flitigt läsa gör dej klok därför läs varenda bok</dc:title>
</cp:coreProperties>
</file>